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B00-83D7-4728-8466-B5E2783D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0E5-1682-4D10-B0C6-1554837B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DDF-5207-4592-A953-709FC064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13F-E7BD-4789-AE8E-9DE2DF5A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0E44-EDF6-41D5-AF7E-C267B80B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A14-E46B-4E73-B5B3-03A41FAF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277-8408-4ACA-9980-E3E50CB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AD41-DC9B-48FF-83C4-8FBA30EB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7F8F-3E65-42E1-8BE6-FC359C6B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613F-F932-4690-AB26-3EF016C5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1EC-4291-447F-9E55-4A0F700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894-F4D0-4A2F-81E3-D57E9DA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0B74-2954-41E2-96B0-FD17C043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802F-79FF-454F-9192-7ED544B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B998-17E1-40A8-99F2-EDAC794B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B59E-AD5C-43A0-9A2A-4F8DDBB2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C34-2C23-45DA-A178-1B72C350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3B51-FE98-4223-9770-B3037752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9A21-11B8-4C86-BA23-5C663C15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84D0-C4A0-4D65-921F-E76070DC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E458-94CD-47B9-AF14-79F5F36E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D40D-A62B-48E1-BE37-1B867246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8CD-4EE7-4429-8708-998BD612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2D1D-E94D-4082-ABBB-C217116C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E4AF-C4FB-4BDE-BCCB-5741EDA1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FDFD-3B10-4E1C-91C7-2902781C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591D-2A6D-425F-9FCB-4FF926B8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76E7-B9F8-4AFB-AA9B-05084B4E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0C1F-BCE1-4621-8147-B1D1D502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6886-A001-475C-BECF-D313F199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01BA-91D8-45EA-9F21-12393CBC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2335-5BF2-4ED5-9B2D-A5CD08A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B123-DC2D-4140-984E-67FF010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DC9-325E-41B8-8CB9-47F3B24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CF0C-92B7-4AA8-A6C9-45D23E6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59AE-DE5B-4D28-92BA-633B04F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0BE5-3DA0-4F34-B25A-D691D61D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5853-10C8-41FC-BF98-89B5B88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A8D8-678C-4D78-97E4-A4BA0C05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E397-170B-4791-9F76-1511EC6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8E2C-49E5-4CBD-8832-686BAE5D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09F0-D185-4BBC-B577-7091F44F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DB09-73ED-4DF6-95F5-15382EA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EB0E-20E8-4D2B-9695-B315CBBF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E5A-5D5D-4A86-AFD2-05F8EAE3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F5EC-CC0B-476B-84B4-990B06A0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1A4D-F9C4-4212-93D1-57A8867E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06653-1754-4D71-BF6B-7CC8BE6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295C-B39C-4562-A3B2-62337930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ADD32-F4FE-4D13-9970-0ED768F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F9716-9B30-430E-9B38-2AD5191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550A-DCE6-468C-992C-1F60FDE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1464-FCEA-4093-9278-429D840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57A1-E4B2-4C76-B91D-F6A0C8C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EF263-7FC4-4A58-844F-154FE41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F02-75FF-4B1B-B22E-E45190A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D0727-CD3C-4FB2-9EFD-E3663D35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12D82-FC58-4181-999B-6FD22D06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9F070-E989-4209-8317-B5A74E9F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863E0-6C03-4DAA-90DB-105EAB9A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922DB-3B75-419C-A4EF-C8F2AA8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8EE9B-2BC6-42EE-8A93-E2EDEC0E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4837B-23CD-48B2-93FD-66114F10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906AF-1C35-4BCC-B09B-7479F44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5D808-6EFE-4E6A-8B24-AFB1FF4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C1B50-40DA-4C5B-B6A7-E8598A6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5A6-FCC2-401E-8646-7EC89D1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F7218-1A71-4535-BC2E-DFE7C62A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E72A9-43BF-4CAF-B0B5-349D53EB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D3489-DB7A-47BC-8D09-40EFC5DC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C72C9-185A-4675-8A64-69A76C5B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6EE7-28CA-4055-89E6-B4D210D4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81E1-2FF7-4F2C-B203-53764BFE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822E-0442-42CE-920C-3D42C78D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6853-51CC-4C85-B663-60B285C2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EEFA8-35B6-4C0E-8A1E-0D1E311F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4714F-F439-474B-83FA-B0904DA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1C7-0836-47C3-8C85-64FD6C73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6838-A8E5-4338-9C14-30110C7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84FB4-5EC5-4DDC-951C-2E28148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1723-052C-4D84-98FF-1E2CDDA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AB65D-9B4E-4CD3-B313-56907F4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D99B7-BF8F-425C-B99A-CB0A8552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52B-8166-4F1C-BA7B-8B00E741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E962-8B5E-4EE2-BBC8-4946222D36C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85B8-F78A-4DAE-8007-301DE1A3E1A1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DED-EA97-4D52-928D-F315DA15EBB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7E3D-F11A-44D6-A022-5EA968F1C78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A2BB-FE03-4416-BF10-ADFA013A0CB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17C4-34EE-49C7-A739-03D6C2C6B33F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22D-8015-4270-AC03-F99CD7749A9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ing Plant and Animal Cells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4" descr="plant cell"/>
          <p:cNvPicPr/>
          <p:nvPr/>
        </p:nvPicPr>
        <p:blipFill>
          <a:blip r:embed="rId1"/>
          <a:stretch/>
        </p:blipFill>
        <p:spPr>
          <a:xfrm>
            <a:off x="1143000" y="1066680"/>
            <a:ext cx="1625760" cy="1346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animal cell"/>
          <p:cNvPicPr/>
          <p:nvPr/>
        </p:nvPicPr>
        <p:blipFill>
          <a:blip r:embed="rId2"/>
          <a:stretch/>
        </p:blipFill>
        <p:spPr>
          <a:xfrm>
            <a:off x="6629400" y="99072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more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store energy from food in ATP molecules. When the cell needs energy, the ATP is broken down to releas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6" name="Picture 4" descr="atp"/>
          <p:cNvPicPr/>
          <p:nvPr/>
        </p:nvPicPr>
        <p:blipFill>
          <a:blip r:embed="rId1"/>
          <a:stretch/>
        </p:blipFill>
        <p:spPr>
          <a:xfrm>
            <a:off x="2743200" y="3352680"/>
            <a:ext cx="3733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Using Information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is the control center of plant and animal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nucleus contains DN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and RNA molecules work together to make proteins.  Cells require thousands of protein molecules in order to work well. (Central Dogma!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9" name="Picture 4" descr="protein"/>
          <p:cNvPicPr/>
          <p:nvPr/>
        </p:nvPicPr>
        <p:blipFill>
          <a:blip r:embed="rId1"/>
          <a:stretch/>
        </p:blipFill>
        <p:spPr>
          <a:xfrm>
            <a:off x="2971800" y="5257800"/>
            <a:ext cx="3581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NA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in a cell’s nucleus determines what kind of cell it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has instructions for all of the cell</a:t>
            </a:r>
            <a:r>
              <a:rPr b="0" lang="ja-JP" sz="2400" spc="-1" strike="noStrike">
                <a:solidFill>
                  <a:srgbClr val="564b3c"/>
                </a:solidFill>
                <a:latin typeface="Arial"/>
                <a:ea typeface="ＭＳ ゴシック"/>
              </a:rPr>
              <a:t>’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 activiti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NA doubles when a cell divid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2" name="Picture 4" descr="division"/>
          <p:cNvPicPr/>
          <p:nvPr/>
        </p:nvPicPr>
        <p:blipFill>
          <a:blip r:embed="rId1"/>
          <a:stretch/>
        </p:blipFill>
        <p:spPr>
          <a:xfrm>
            <a:off x="3048120" y="46483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Plant Cells vs Animal Cells:</a:t>
            </a:r>
            <a:br>
              <a:rPr sz="3600"/>
            </a:br>
            <a:r>
              <a:rPr b="0" lang="en-US" sz="3600" spc="-1" strike="noStrike">
                <a:solidFill>
                  <a:srgbClr val="6b7d72"/>
                </a:solidFill>
                <a:latin typeface="Book Antiqua"/>
              </a:rPr>
              <a:t>Similarities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nimal and plant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ell membranes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enclose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are filled with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cytoplasm,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a gel-like substance containing chemicals needed by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a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nucleu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her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DN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is stor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riboso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protein builders of ce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Similarities Continued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use oxygen to break down food and releas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kinds of cells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hat contain food, water, or waste products. (Animal cells usually have many more vacuoles than plant cells do.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A Few More Similariti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endoplasmic reticulu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where a system of tubes transports protei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have 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Golgi bodi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distribute proteins outside of the cell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1" name="Picture 4" descr="MP900390197[1]"/>
          <p:cNvPicPr/>
          <p:nvPr/>
        </p:nvPicPr>
        <p:blipFill>
          <a:blip r:embed="rId1"/>
          <a:stretch/>
        </p:blipFill>
        <p:spPr>
          <a:xfrm>
            <a:off x="2819520" y="4114800"/>
            <a:ext cx="3657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ell wall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at provide structure.  Animal cells do not have cell wall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photosynthesis, which is how they make their food/energy. Animal eat to get their energy, thus animal cells do not have chloroplast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nt cells have much larger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vacuoles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40382d"/>
                </a:solidFill>
                <a:latin typeface="Century Gothic"/>
              </a:rPr>
              <a:t>typically they have one large, central vacuole </a:t>
            </a:r>
            <a:r>
              <a:rPr b="0" i="1" lang="en-US" sz="2400" spc="-1" strike="noStrike">
                <a:solidFill>
                  <a:srgbClr val="4038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PLANT CELLS ONL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ne of the reasons plant cells have larger vacuoles is for structure and suppor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s a vacuole is filled with water, the pressure inside pushes against the cell wall, help the plant to support it’s rigid structu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called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turgor pressur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3962520" y="4495680"/>
            <a:ext cx="4559040" cy="1817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98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More Differences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 cells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mitochondria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for energy production.  Plants primarily use </a:t>
            </a:r>
            <a:r>
              <a:rPr b="0" lang="en-US" sz="2400" spc="-1" strike="noStrike">
                <a:solidFill>
                  <a:srgbClr val="3366ff"/>
                </a:solidFill>
                <a:latin typeface="Century Gothic"/>
              </a:rPr>
              <a:t>chloroplast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to produce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nimals cells have </a:t>
            </a:r>
            <a:r>
              <a:rPr b="0" i="1" lang="en-US" sz="2400" spc="-1" strike="noStrike">
                <a:solidFill>
                  <a:srgbClr val="3366ff"/>
                </a:solidFill>
                <a:latin typeface="Century Gothic"/>
              </a:rPr>
              <a:t>lysosomes</a:t>
            </a: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ut plant cells do no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get energy originally from the su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plant cells, chloroplasts trap light energy and change it into chemical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hemical energy is stored in bonds between atoms of carbon, hydrogen, and oxyge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ells &amp; Energy (continued!)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hemical bonds hold two or more atoms together to form molecules of sug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oth plant and animal cells break down these molecules by breaking the chemical bond.  When the bonds are broken, energy is releas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ells can either use the energy or store i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itochondria in plant and animal cells use oxygen to release this energ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2:00:43Z</dcterms:created>
  <dc:creator>WSFCS Workstation</dc:creator>
  <dc:description/>
  <dc:language>en-US</dc:language>
  <cp:lastModifiedBy>Geneva Jost</cp:lastModifiedBy>
  <dcterms:modified xsi:type="dcterms:W3CDTF">2016-11-07T17:00:16Z</dcterms:modified>
  <cp:revision>7</cp:revision>
  <dc:subject/>
  <dc:title>Comparing Plant and Animal Cells</dc:title>
</cp:coreProperties>
</file>